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1166-25A5-4076-9E19-96F5477B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104E-C7DA-4217-9498-94FB1615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22A7-678F-4E46-823E-69E156DB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D4A-1F6C-4D81-B1A2-8C38CE58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F217-5B3D-45C3-9AD8-10B3BAED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9F0-DA62-41E7-8164-CD2F3CB5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E46E-9532-41C2-89ED-BC2349E7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750-3FF6-4FC3-ACDC-E6AA2F8E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3240-B4DB-48A9-9FB6-081B1833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28EA-598C-4C8B-AD30-75E46CA2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C421-B1F3-4E72-BB0D-BE835BF5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047-9F7E-4161-9CFF-E185EFB0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3BE4-769F-4ED8-B00E-FC9F56AF7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772400" cy="39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ceb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638520" cy="498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315200" cy="49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81680" cy="50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467480" cy="49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47712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j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12762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629400" cy="49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y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9099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c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62320" y="1143000"/>
            <a:ext cx="4133880" cy="55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867280" cy="5430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5:25:28Z</dcterms:created>
  <dc:creator>netadmin8</dc:creator>
  <dc:description/>
  <dc:language>en-US</dc:language>
  <cp:lastModifiedBy>netadmin8</cp:lastModifiedBy>
  <dcterms:modified xsi:type="dcterms:W3CDTF">2011-10-12T15:47:44Z</dcterms:modified>
  <cp:revision>3</cp:revision>
  <dc:subject/>
  <dc:title>Continent</dc:title>
</cp:coreProperties>
</file>